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5AC-3BEE-4494-AAFF-F545D38B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54A4-F23E-4D7B-B45E-50264FFD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F49-48C6-4058-980B-5FF3B5DE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26AD-37D4-404B-88CB-8509D14F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95C-3645-455C-94D4-610E6566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B84-ACB3-4FF7-9A52-E0CAFFB9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F32-7ED4-464B-A185-964AA50C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218-1483-4415-B422-0B78122F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8355-490D-4E68-8A74-EE29B357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287-CA83-4D99-B22C-EE04B7A0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2FA-46EE-4861-A8D3-C50B29DF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321-B0A3-4AA1-957C-8B39FD3D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D7B9-82DB-4CD4-BFF0-7D9336EAF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914040"/>
            <a:ext cx="84600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Sea Shanti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260440" y="2286000"/>
            <a:ext cx="5715000" cy="3835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381400" y="6197760"/>
            <a:ext cx="53164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pper ships were very fast, and were used to haul cargo across the atlantic oce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Haul Away Joe.mp3" descr=""/>
          <p:cNvPicPr/>
          <p:nvPr/>
        </p:nvPicPr>
        <p:blipFill>
          <a:blip r:embed="rId2"/>
          <a:stretch/>
        </p:blipFill>
        <p:spPr>
          <a:xfrm>
            <a:off x="43164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38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320" y="5994000"/>
            <a:ext cx="9658440" cy="14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apstan was used to raise the anchor, which was much too heavy for a person to pull up by h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641680" y="1117440"/>
            <a:ext cx="4724280" cy="4229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5327640" y="812880"/>
            <a:ext cx="474516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agine these men singing a capstan shanty to walk in ti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anty Anno.mp3" descr=""/>
          <p:cNvPicPr/>
          <p:nvPr/>
        </p:nvPicPr>
        <p:blipFill>
          <a:blip r:embed="rId2"/>
          <a:stretch/>
        </p:blipFill>
        <p:spPr>
          <a:xfrm>
            <a:off x="43164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8236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320" y="5587920"/>
            <a:ext cx="965844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se halyards had to be hauled up the mast with ropes and human strength! Halyard shanties repeated a key word at regular intervals which signaled the men to pull when singing the wor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15920" y="304920"/>
            <a:ext cx="8035920" cy="5130720"/>
          </a:xfrm>
          <a:prstGeom prst="rect">
            <a:avLst/>
          </a:prstGeom>
          <a:ln w="0">
            <a:noFill/>
          </a:ln>
        </p:spPr>
      </p:pic>
      <p:pic>
        <p:nvPicPr>
          <p:cNvPr id="51" name="Blow the Man Down.mp3" descr=""/>
          <p:cNvPicPr/>
          <p:nvPr/>
        </p:nvPicPr>
        <p:blipFill>
          <a:blip r:embed="rId2"/>
          <a:stretch/>
        </p:blipFill>
        <p:spPr>
          <a:xfrm>
            <a:off x="43164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893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930320" y="101520"/>
            <a:ext cx="6113520" cy="749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rofile</cp:lastModifiedBy>
  <dcterms:modified xsi:type="dcterms:W3CDTF">2010-08-10T21:56:33Z</dcterms:modified>
  <cp:revision>3</cp:revision>
  <dc:subject/>
  <dc:title>PowerPoint Presentation</dc:title>
</cp:coreProperties>
</file>